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08E-FC97-4316-9D3C-8CD9B83E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09E-D66D-4611-BF15-CF527BCF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61B-582B-4BDC-B8F4-75BDB7DA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EBB-D460-4AFD-8F78-C5EBA1E3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E8E4-C6AF-4763-8517-7BBEF087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5C28-C39A-45BE-AE77-2B0E017E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37B9-249C-4D46-B8D5-F3387443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7632-4307-46AD-A047-A3C67914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379A-0778-492B-B5C2-A79BA83D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A1BD-F150-449B-ACBC-3D306872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F596-D85A-4635-9ADF-ECE44DD7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F5A-6E4B-4F97-A86C-3A2D495E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E376-E6B7-4E9A-9DAA-9E48E7E3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CD43-20DD-4D6C-8489-59135109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4AFE-2A52-4EEB-BA6F-4A7A089B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00EB-A0CE-47C6-BCF9-649348FA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48EC-0691-4FD7-B248-5E8004E7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63D-F9DC-4DF9-A5C0-588AE6A9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CB3-E421-4930-9A8A-1FC26F83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ACF-96A0-45E6-BF8D-66DE250E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0D0-76EC-4CE1-9936-B884B0BB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CB8-DEA8-4E9D-B883-79863E18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589-EE48-4D3F-9436-4C5B4303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EEB-93F3-4657-AE76-305A95C8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1E42-F4F1-4FBE-A17D-7BA8224CE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E8AE-7F8E-49E7-B84C-1CC59403F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CHAPTER  6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DUEL FOR NORTH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ench and Indian 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Europe, England and Prussia against France, Spain, Austria and Russ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merica, French and their Indian allies against British, colonists and their Indian al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5800" y="1684440"/>
            <a:ext cx="2779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Albany Congr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of 13 Colonies send re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-range purp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-range purp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 Franklin’s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0388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French and Indian War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t Duques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le of the Wilderness 7/9/5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dd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s pumme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hington a h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716360" y="1600200"/>
            <a:ext cx="3900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French and Indian War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iam Pitt new Prime Min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Commoner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policies toward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uisbur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es Wolfe –Queb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698480"/>
            <a:ext cx="40384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723920" y="914400"/>
            <a:ext cx="3962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y of Paris 176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ada seceded to Bri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nch forced to give Louisiana to Sp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give Florida to the Br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e completely out of N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300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ffects of War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,000 Americans fight in the wa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es emerge with renewed confidence in their military abil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th of invincible Brit. troops shatter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s have contempt for colonial milit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olonists had not supported the w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er Colonial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Impact of War on Colonist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sense of Freedom-French G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l less dependent on Br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spread into Ohio Val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an threat re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ntiac’s Rebe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26708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roclamation of 1763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it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Britain’s objec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the colonists react to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2195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d of Chap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French Settlement in North Americ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came late to NA colon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ict of Nan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uis XIV: 1643-171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uel de Champl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ruled Canada autocratical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s Canada grew slow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8954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632480" y="1143000"/>
            <a:ext cx="4176720" cy="5334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105520" y="649116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rench holdings: 17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24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New France Fans Ou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9520" y="160020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ver and other furs important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r-trappers ranged over Frenc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interaction with Native Ame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ation of Voyageu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it Mission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2004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p 6.2: Fur-Trading Po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69132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Other French Explor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oine Cadillac founded Detro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de La Salle: interior basin “Louisi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1700s establish a number of posts on the Mississippi riv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Orle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unded in 1718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ce of New Orlea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ash of Empir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g Williams’ War 1689-169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ar of the league of Augsbur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and allies against French and Spanish to try to check the power of F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en Anne’s War 1702-171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ar of Spanish Successio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ght when Louis XIV tries to put his Grandson on the throne of Sp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3657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reaty of Utrech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land get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a Scot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found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dson Bay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trading rights in Spanish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114800" y="685800"/>
            <a:ext cx="4645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ash of Empir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 George’s War—1744-48 (War of Austrian Succession in Euro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and Spain against British (in North Americ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e Breton Is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s give it back in the peace treaty.  (1748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Englanders outraged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Background to French and Indian War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io Valley disp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. Governor Dinwitty sends militia and George Washing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t Neces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W forced to surrender after 10-hour sie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official start of the French and Indian War (Seven-Years Wa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20:02:28Z</dcterms:created>
  <dc:creator>John Steere</dc:creator>
  <dc:description/>
  <dc:language>en-US</dc:language>
  <cp:lastModifiedBy>John Steere</cp:lastModifiedBy>
  <dcterms:modified xsi:type="dcterms:W3CDTF">2007-06-03T17:00:09Z</dcterms:modified>
  <cp:revision>10</cp:revision>
  <dc:subject/>
  <dc:title>CHAPTER  6 </dc:title>
</cp:coreProperties>
</file>